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620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620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0A8D1-C5ED-42C8-9D8B-E1DD71C656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A08C-573B-4183-9CF6-4603D5F1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B01-DACD-4D06-A5DB-EEEE1A07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A74-10DE-4E34-BF39-024662B2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38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392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38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4E9-724D-4315-A82D-F50ED12A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F191-8003-42FF-92B8-DCE29517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DE18-97B9-4B38-AC48-F325B320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F2B2-651C-414F-B2BD-134583E6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7F04-6C6F-402F-92D0-8D45FD87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EB24-8B21-4B62-A792-3BE46A12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584280"/>
            <a:ext cx="73119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0FD8-C390-4D09-98FE-ED0551E1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EF03-4B79-42DE-98B4-B2FEED5F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A6BB-4188-4FF9-9989-33E6A339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CABA-FFD1-4A87-A9D4-017815B3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C218-4784-4251-9033-F3B95F29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7805-6CE7-43D7-B67D-7C76F344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414A-DCE1-4F50-9191-D96AC870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38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392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38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62CA-B36B-40D3-9451-A8BB8E25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25C-0452-4603-9CEB-D22BAD44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2DF-4945-485B-A3C0-22F1BBAF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E32-897E-4EC4-A531-F0EA3939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584280"/>
            <a:ext cx="73119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F92-5F1B-4B7D-B5E8-BF3B8852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ED92-9A93-47F6-AB9A-27839697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82B4-A58C-48D2-9DEC-14A3D77A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446-0092-4D55-8D7F-E7D94860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68200" indent="-26820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84280" indent="-22320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26396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62504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625040" indent="-1803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625040" indent="-1803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7720" y="5943240"/>
            <a:ext cx="1901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7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C9D74-28F0-40C5-8AC3-3B2042AE63DE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7720" y="5943240"/>
            <a:ext cx="1901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7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CACC758-6D01-49FB-92FC-104A3A8AC0EB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5640" indent="-30564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65640" indent="-2541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44000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851480" indent="-2055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851480" indent="-2055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udoscript.com/articles/junit_framework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cc9900"/>
                </a:solidFill>
                <a:latin typeface="Tahoma"/>
              </a:rPr>
              <a:t>Junit Training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Chris Yeu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8</a:t>
            </a:r>
            <a:r>
              <a:rPr b="0" lang="en-GB" sz="3000" spc="-1" strike="noStrike" baseline="33000">
                <a:solidFill>
                  <a:srgbClr val="ffffff"/>
                </a:solidFill>
                <a:latin typeface="Tahoma"/>
                <a:ea typeface="MingLiU"/>
              </a:rPr>
              <a:t>th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 Sept, 200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380880"/>
            <a:ext cx="8001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&lt;JUnit Report&gt;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39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Other assertion metho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414440"/>
            <a:ext cx="754236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Equals(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Equals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is method is heavily overloaded: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rg1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rg2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must be both objects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oth of the same primitive ty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objects, uses your equals method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you have defined it properly, as 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public boolean equals(Object o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-otherwise it uses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=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Same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Same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wo objects refer to the same object (using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==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Same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Same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wo objects do not refer to the same objec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Other assertion metho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2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ull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ul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he object is nul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Null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Nul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he object is nul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fail(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fai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uses the test to fail and throw an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ionFailed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eful as a result of a complex test, when the other assert methods aren’t quite what you w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at should I tes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things which could brea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should succeed quietl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print “Doing foo…done with foo!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Negative tests, exceptions and erro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hat shouldn’t I te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test set/get metho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test the compiler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Fixtur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andle common objects under test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etup() and tearDown() used to initialize and release common objec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d to insure there are no side effects between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nforce the test independence rule, test execution order is not guarunte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Execri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979640"/>
            <a:ext cx="7542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a testcase to test 3 method of java.util.ArrayLi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Suit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void main (String [] args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junit.textui.TestRunner.run (suite 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Test suite 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 = new TestSuite  ("AllTest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(new TestSuite (AllTests.class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 (StringTest.suite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AllTests () throws Exception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ssertTrue (suite != null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Runners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Lightweight, quick quie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un from command lin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java StringT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....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Time: 0.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Tests run: 7,  Failures: 0,  Errors: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Runners - Sw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Run with java junit.swingui.TestRunn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38718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8200" y="584280"/>
            <a:ext cx="731340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Runners - Eclip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0720" y="1906560"/>
            <a:ext cx="7704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Introduc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JUnit is a regression testing framewor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ten by Erich Gamma and Kent Beck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d by developers to implement unit tests in Jav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Goal: Accelerate programming and increase the quality of cod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art of XUnit family (HTTPUnit, Cactus), CppUn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Automating testing (Ant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Junit Tas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target name="test" depends="compile-test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junit printsummary="yes" fork="ye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pathelement location="${build}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pathelement location="${build}/test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formatter usefile="yes" type="plain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test name="AllTests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juni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Ant Batch mo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target name="batchtest" depends="compile-test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junit printsummary="yes" fork="yes" haltonfailure="no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pathelement location="${build.dir}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pathelement location="${build.dir}/test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formatter type="plain" usefile="yes"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batchtest fork="yes" todir="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fileset dir="${test.dir}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include name="**/*Test.java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files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batchtes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juni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ing for test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eparation of interface and implement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lows substitution of implementation to 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Factory patt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vides for abstraction of creation of implementations from the test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trategy patt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cause FactoryFinder dynamically resolves desired factory, implementations are plug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 for testing - Factori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Courier New"/>
              </a:rPr>
              <a:t>new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 only used in Factor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llows writing tests which can be used across multiple implementation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motes frequent testing by writing tests which work against objects without requiring extensive setu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extra-container” testing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 for testing - Mock Object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hen your implementation requires a resource which is unavailable for test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xternal system or database is simulat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nother use of Factory, the mock implementation stubs out and returns the anticipated results from a reques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Example of using Mock Objec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236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import org.jmock.*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PublisherTest extends MockObjectTestCase 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void testOneSubscriberReceivesAMessage() 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et up, subscriber can be any clas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Mock mockSubscriber = mock(Subscriber.class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 publisher = new Publisher(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.add((Subscriber) mockSubscriber.proxy()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final String message = "message"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expectation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mockSubscriber.expects(once()).method("receive").with( eq(message) 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execut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.publish(message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4000"/>
              </a:lnSpc>
              <a:buClr>
                <a:srgbClr val="ffffff"/>
              </a:buClr>
              <a:buFont typeface="Tahoma"/>
              <a:buChar char="•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Estrangelo Edessa"/>
                <a:ea typeface="Courier New"/>
              </a:rPr>
              <a:t>Of course, you can write mock yourself by implement interface with simple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90400"/>
            <a:ext cx="73152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ing with resources (EJB/DB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 fixtures to request resource connection via factory, could be no-op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 vm args or resource bundle to drive which factory is us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ata initialization/clearing handled by fixtures to preserve order independence of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306360"/>
            <a:ext cx="73137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velop testcase with database using abstract base clas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979640"/>
            <a:ext cx="8593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699ff"/>
                </a:solidFill>
                <a:latin typeface="Courier New"/>
              </a:rPr>
              <a:t>public abstract class DatabaseTestCase extends TestCase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final void setUp() throws SQLException, IO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resetDa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DefaultDataManager.setupDefaultDa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databaseSetUp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final void tearDown() throws SQL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this.databaseTearDown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this.getConnection().clos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void databaseSetUp() throws SQLException, IO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void databaseTearDown() throws SQL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ublic final Connection getConnection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return currentContext.connectio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In-container unit test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07960" y="1832040"/>
            <a:ext cx="77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here are tools like cactus and StrutsTestC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xcellent for testing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EJ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Servlets, Filters, Taglib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Container-dependent frameworks, like Stru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380880"/>
            <a:ext cx="8001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Best Practic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295280"/>
            <a:ext cx="77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parate production and tes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ut typically in the same pac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pile into separate trees, allowing deployment without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n’t forget OO techniques, base cl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est-drive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Write failing test fir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ing for Excep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 then F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 then Re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Where should I put my test fil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y test?  Why Juni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utomated tests prove featu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retain their value over time and allows others to prove the software still works (as tested)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onfidence, quality, slee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ffective, open source, integrat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Get to code sooner by writing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rite failing test firs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your test first, or at least at the same tim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 what can brea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reate new tests to show bugs then fix the bu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 driven development says write the test then make it pass by coding to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ing for Exception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ExpectException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1 = null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2 = new String("abcd");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1.toString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fail("Should see null pointer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catch(NullPointerException ex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then Fix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Bugs occasionally slip through (gasp!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a test first which demonstrates the error.  Obviously, this test is need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Now, fix the bug and watch the bar go green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Your tests assure the bug won’t reappea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then Refactor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Once the code is written you want to improve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hanges for performance, maintainability, readabilit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help you make sure you don’t break it while improving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mall change, test, small change, test..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82120"/>
            <a:ext cx="731376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ere should I put my test files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1833480"/>
            <a:ext cx="7559640" cy="48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You can place your tests in the same package and directory as the classes under test. For example: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r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.ja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Test.jav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n arguably better way is to place the tests in a separate parallel directory structure with package alignment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For exampl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r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.ja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Test.jav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These approaches allow the tests to access to all the public and package visible methods of the classes under tes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Resourc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.junit.or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.xprogramming.co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-106.ibm.com/developerworks/java/library/j-junitmail/index.htm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jakarta.apache.org/a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at is Juni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Test framework provides tools for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sser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unning tes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ggregating tests (suites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eporting resul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Philosophy always the sam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Let developers write test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Make it easy and painles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Test early and test oft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infected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t’s a Good Thing, no penicillin need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mmediate gratification with build iter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Start with “The Simplest Thing That Could Possibly Work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terate by successive application of design pattern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Break the cycle of more pressure == fewer tes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educe code captiv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f others can test it, others can work on i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Mechanic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a subclass of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estCase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verride the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etUp() &amp; tearDown(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one or more public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estXXX(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xercise the object(s) under tes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e expected results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a static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uite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actory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reate a TestSuite containing all the tests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ptionally define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in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un the TestCase in batch m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Mechanic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600200"/>
            <a:ext cx="712944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Simple Testca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class StringTest extends TestCase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rotected void setUp(){ /* run before */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rotected void tearDown(){ /* after */ 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SimpleAdd()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1 = new String(“abcd”)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2 = new String(“abcd”);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ssertTrue(“Strings not equal”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1.equals(s2))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junit.textui.TestRunner.run (suite 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cc9900"/>
                </a:solidFill>
                <a:latin typeface="Tahoma"/>
              </a:rPr>
              <a:t>Simple Testcase (cont.)</a:t>
            </a:r>
            <a:endParaRPr b="0" lang="en-US" sz="35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Test suite 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 = new TestSuite (”StringTest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tests = System.getProperty("test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if (tests == null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(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estSuite(StringTest.class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else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okenizer tokens = 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okenizer(tests, ",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hile (tokens.hasMoreTokens()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(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est((String)tokens.nextToken()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return sui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JUNIT presentation</dc:title>
</cp:coreProperties>
</file>